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EC3-741B-4961-8870-DF2D7D6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E9B-D02B-43BA-82E4-F24794DA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4BD-9EAF-4F73-80C9-DB3D0B5A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E19-7DA2-4CAC-97A1-AED04213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EE6-B51A-45FF-99A6-5EED7A6E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484-F283-4C08-B057-123458B5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89B-20ED-4C20-A7DE-ECB3D3A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406-5967-45E2-830A-267608CF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C24-A8C2-43DD-8FD8-9B3305A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DD7-453B-4EE2-8A2D-7CAB098C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634-1692-431D-AB18-4E65BC6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CE9-E698-4863-9152-8AA77380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FBB51-1D6F-4430-B9E5-D7789902C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76D74-5BDC-4BE1-AD79-FB7F66F5A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What are the four types of front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temperature in Memphis is 40 degrees. There is currently a cold air mass over Memphis.  However, nearby weather stations have recorded a warm air mass moving toward Memphis from the southwes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temperature in Memphis is 80 degrees. Nearby weather stations have recorded a warm air mass moving toward Memphis from the southwest and a cold air mass moving toward Memphis from the northeas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temperature in Memphis is 12 degrees. There is currently a warm air mass over Memphis.  However, nearby weather stations have recorded a cold air mass moving toward Memphis from the wes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e temperature in Memphis is 65 degrees. There is currently a warm front over Memphis.  However, nearby weather stations have recorded a cold front moving toward Memphis from the west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9 Independen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Anticipatory Se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eam Challeng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Round 1 of Job Interview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Independent Practic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7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m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Your team is applying for a job with the Bobcat News Agency as their new meteorologist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The meteorologists job is very prestigious.  In order to get the job you will compete in 3 rounds of interview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 (Body)"/>
                <a:ea typeface="Calibri (Body)"/>
              </a:rPr>
              <a:t>The team with the best overall performance will receive a special reward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4.9 Front Effects Background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840" y="0"/>
          <a:ext cx="9128160" cy="6643800"/>
        </p:xfrm>
        <a:graphic>
          <a:graphicData uri="http://schemas.openxmlformats.org/drawingml/2006/table">
            <a:tbl>
              <a:tblPr/>
              <a:tblGrid>
                <a:gridCol w="2938320"/>
                <a:gridCol w="61898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d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nderstor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y rain or sno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zzly rain then clear ski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ary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zzly rain then clear ski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luded Fro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er temperatur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ts of precipit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nd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day each of your team captains will receive an envelope containing a scenario involving front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team must use this information to identify the front involved, use that information to predict the weather, and present your findings to the cla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enari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enario Detai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temperature in Memphis is 70 degrees. There is currently a warm air mass over Memphis.  However, nearby weather stations have recorded a cold air mass moving toward Memphis from the wes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2:51:42Z</dcterms:created>
  <dc:creator>Caroline Roth</dc:creator>
  <dc:description/>
  <dc:language>en-US</dc:language>
  <cp:lastModifiedBy>Caroline Roth</cp:lastModifiedBy>
  <dcterms:modified xsi:type="dcterms:W3CDTF">2010-11-28T03:04:46Z</dcterms:modified>
  <cp:revision>4</cp:revision>
  <dc:subject/>
  <dc:title>Bellringer</dc:title>
</cp:coreProperties>
</file>